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8207-F01E-4CC1-9DE9-7250A7ADB1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981000" cy="539640"/>
            <a:chOff x="0" y="0"/>
            <a:chExt cx="981000" cy="53964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54720"/>
              <a:ext cx="980640" cy="4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344160"/>
              <a:ext cx="9810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8100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 fichier Power point reprend les principaux éléments du fichier word « Mode d’emploi du module de saisie et d’analy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550-8839-4966-ABE6-10CF4F7C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45F-7ED9-4E5A-83FF-F91E440C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898-5F03-44F7-B875-9B8E389E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983-106B-447C-879B-12CEFE8F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EA7-BC03-43D0-802C-5B03F2AF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8BB-8B65-4C41-BDA1-7714F0CF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C57-EB9F-4B5A-912B-EB9C6B4E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E87-2057-46D0-B217-9C178519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D54-551B-4EDB-A19B-10270FC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8F6-B5F4-43FC-BE58-9BCFB94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691-3753-4C62-8757-81E492B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199-7928-4153-837C-F66C79A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57680"/>
            <a:ext cx="2133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032-3FC5-41BD-9600-031349417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773360"/>
            <a:ext cx="7993080" cy="2232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udit 2007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La préparation cutanée de l’opéré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4764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rebuchet MS"/>
              </a:rPr>
              <a:t>Mode d’emploi du module de saisie et d’analyse</a:t>
            </a:r>
            <a:endParaRPr b="0" lang="en-US" sz="40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54" name=""/>
          <p:cNvSpPr/>
          <p:nvPr/>
        </p:nvSpPr>
        <p:spPr>
          <a:xfrm>
            <a:off x="1987920" y="476280"/>
            <a:ext cx="64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GRoupe d’Évaluation des Pratiques en Hygiène Hospitaliè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0920" y="260280"/>
            <a:ext cx="1347840" cy="981000"/>
            <a:chOff x="250920" y="260280"/>
            <a:chExt cx="1347840" cy="9810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250920" y="360000"/>
              <a:ext cx="134748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50920" y="885600"/>
              <a:ext cx="134784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0920" y="260280"/>
              <a:ext cx="1347840" cy="15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Servic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Service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7320" y="1033560"/>
            <a:ext cx="6929280" cy="5797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3400200" y="3305160"/>
            <a:ext cx="3809880" cy="327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80920" y="2376360"/>
            <a:ext cx="3567240" cy="67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B9C2-F013-49BB-9436-5F1778551A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Servic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5760" y="4767120"/>
            <a:ext cx="8763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sissez les données dans les cases encadrées puis tapez sur T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passer à la case suiv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5120" y="6234120"/>
            <a:ext cx="8771040" cy="595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les macros sont désactivées, les passages automatiques à la case suivante peuvent ne pas fonction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tiliser votre souris ou taper à nouveau sur la touche Tab pour aller sur la case suiv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5760" y="5505480"/>
            <a:ext cx="87710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as d’erreur lors de la saisie (vous avez tapé 1 alors que la réponse était 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pouvez rectifier en retapant 2 sur la case puis en faisant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3862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162920" y="838080"/>
            <a:ext cx="1295280" cy="1371600"/>
          </a:xfrm>
          <a:prstGeom prst="wedgeEllipseCallout">
            <a:avLst>
              <a:gd name="adj1" fmla="val -99388"/>
              <a:gd name="adj2" fmla="val -1296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97776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la fin de la saisie, cliquer sur Retour au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BFA-DFCC-45F0-AF18-7FA5ED98A2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Patients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1033560"/>
            <a:ext cx="6934320" cy="5803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3886200" y="3305160"/>
            <a:ext cx="3324240" cy="340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57240" y="2376360"/>
            <a:ext cx="3490920" cy="10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723-ABC5-400C-B34E-7CE6AB8240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0160" y="961920"/>
            <a:ext cx="8715240" cy="5362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33920" y="1066680"/>
            <a:ext cx="5029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fiche d’audit pour u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 à une col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6160" y="824040"/>
            <a:ext cx="609480" cy="5333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581280"/>
            <a:ext cx="5029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isissez toutes les cases d’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nne, à chaque fois en tapant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ouche 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2362320"/>
            <a:ext cx="5029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assage de la souris dans le petit tri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ge rappelle la liste des valeurs perm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 chaqu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623680" y="2228760"/>
            <a:ext cx="1109880" cy="36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652480" y="2576520"/>
            <a:ext cx="1081080" cy="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24200" y="4800600"/>
            <a:ext cx="50292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cas d’erreur lors de la saisie (vous av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pé 1 alors que la réponse était 2), v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vez rectifier en retapant 2 sur la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is en faisant 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41A-A32E-42C8-B6DF-0502B6305F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056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961920"/>
            <a:ext cx="8686800" cy="5515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505320" y="2819520"/>
            <a:ext cx="502920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les macros sont désactivé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iller à saisir les codes « 8 » q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’apparaîtront pas automatiqu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 les cases entourées, (lorsque la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 la question précédente est «non» ou «NA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595600"/>
            <a:ext cx="380880" cy="228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124080"/>
            <a:ext cx="380880" cy="1954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500280"/>
            <a:ext cx="380880" cy="228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3962520"/>
            <a:ext cx="380880" cy="7617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876920"/>
            <a:ext cx="3808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5C6-167E-4A56-93C0-4A092E3F6F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056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3280" y="990720"/>
            <a:ext cx="8682120" cy="5486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581280" y="3276720"/>
            <a:ext cx="5029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vous saisissez une valeur incohér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 les cases entouré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message vous le rappelle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cisant que la donnée saisie ne sera p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se en compte dans les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33760" y="2610000"/>
            <a:ext cx="3808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38440" y="3090960"/>
            <a:ext cx="3808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47800" y="347184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019400"/>
            <a:ext cx="333360" cy="67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2200" y="4871880"/>
            <a:ext cx="3240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B76-2C23-4682-BCCE-2FEC758BBB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056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961920"/>
            <a:ext cx="8686800" cy="551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733920" y="1752480"/>
            <a:ext cx="50292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rsque toutes les données d’une f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 Patients » sont saisies (c’est-à-dire tou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cases de la colonne remplies), il apparaî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s de page la réponse « Oui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que à la question : Fiche complèt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120" y="3200400"/>
            <a:ext cx="838440" cy="290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3886200"/>
            <a:ext cx="502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ta ben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 seront prises en compte d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analyse et l’édition du ra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 les fiches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OMP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400800"/>
            <a:ext cx="5638680" cy="457200"/>
          </a:xfrm>
          <a:prstGeom prst="wedgeRectCallout">
            <a:avLst>
              <a:gd name="adj1" fmla="val -50703"/>
              <a:gd name="adj2" fmla="val -100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0320" y="6469200"/>
            <a:ext cx="55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81"/>
                </a:solidFill>
                <a:latin typeface="Arial"/>
              </a:rPr>
              <a:t>A la fin de la saisie, cliquer sur la flèche Retour au M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62120" y="6062760"/>
            <a:ext cx="38592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D99-8062-47DB-B5A0-B38F7938C2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u rapport d’analys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Rapport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7320" y="1004760"/>
            <a:ext cx="6929280" cy="5808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H="1">
            <a:off x="3123720" y="2362320"/>
            <a:ext cx="4024440" cy="15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572000" y="3224160"/>
            <a:ext cx="2819520" cy="32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3A8-911A-4CFD-AB0C-00394DF703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u rapport d’analys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840" y="1076400"/>
            <a:ext cx="9058320" cy="5238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05120" y="2209680"/>
            <a:ext cx="52578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B : ce rapport n’est pas protég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s pouvez donc y apporter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aires, supprimer des lig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T de faire des modifications sur le 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TES UNE COPIE DU FICHI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le renomm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r exemple POP_TABLEUR URO V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418-9BD4-474C-B65C-4FF51A652E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e graphique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Graphiques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7320" y="1004760"/>
            <a:ext cx="6929280" cy="580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>
            <a:off x="3505320" y="2362320"/>
            <a:ext cx="3643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57440" y="3224160"/>
            <a:ext cx="2133720" cy="325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8DE-7401-4A6E-9102-7CAB7411A7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ommair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Installation de POP_TABLEUR.xls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Saisie des données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Édition du rapport d’analyse 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Édition de graphiques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Édition du poster de synthèse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Sauvegarde des données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Envoi des données au C-CLIN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Assistance en cas de difficultés 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76E-6C85-493E-B994-CF71975A7B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e graphique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920880"/>
            <a:ext cx="8305920" cy="5810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080" y="2209680"/>
            <a:ext cx="762012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us pouvez copier les graphiques, pour les intégrer d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autre logiciel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les mettre dans une présentation power point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cela, cliquer sur le graphique choisi, aller dans le menu Edi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 sur Copier (ou faites Ctrl C sur votre clavier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is aller dans le logicie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power point par exempl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 dans le menu Edition, cliquer sur Coller (ou faites Ctrl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1371240" y="1066680"/>
            <a:ext cx="6172200" cy="236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195-FC86-417E-97A4-7EAA6ED0EA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u poster de synthès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Poster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7320" y="1004760"/>
            <a:ext cx="6929280" cy="5808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H="1">
            <a:off x="3048120" y="2362320"/>
            <a:ext cx="41004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790960" y="3276720"/>
            <a:ext cx="1904760" cy="32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F4F-5BF8-412B-94B9-A1E165CB58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u poster de synthès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130400"/>
            <a:ext cx="9144000" cy="5770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133720" y="1905120"/>
            <a:ext cx="525780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B : ce poster n’est pas protég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s pouvez donc y apporter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aires, notamment d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ncart « axes d’amélioration » pré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00240" y="3505320"/>
            <a:ext cx="1676520" cy="2895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191120"/>
            <a:ext cx="52578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T de faire des modifications sur le p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TES UNE COPIE DU FICH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le renomm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r exemple POP_TABLEUR URO V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C93-37C3-439B-BA75-B507BDE944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uvegarde des donnée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90360" y="121932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4 possibil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ous cliquez sur l’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ous allez dans le menu Fichier, vous cliquez sur Enregist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ous tapez Ctrl S sur votre clavier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rsque vous quittez l’application, vous obtenez la fenê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quez sur 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5791320" cy="1301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H="1">
            <a:off x="4105080" y="2228760"/>
            <a:ext cx="5331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71800" y="2862360"/>
            <a:ext cx="304920" cy="304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762000" y="2819160"/>
            <a:ext cx="15228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114800" y="5753160"/>
            <a:ext cx="4519440" cy="1104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352680" y="662940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826-6C16-4B56-97A9-ECF1F2E8D7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Envoi des données au C-CLIN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"/>
          <p:cNvSpPr/>
          <p:nvPr/>
        </p:nvSpPr>
        <p:spPr>
          <a:xfrm>
            <a:off x="22478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6629400" cy="5556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781680" y="1219320"/>
            <a:ext cx="236232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. Vérifier que 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Établiss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t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nt bien complè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. Qui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. Envoyer vo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vos) fichier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 C-C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381360" y="2895480"/>
            <a:ext cx="552600" cy="14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7B4-9EB2-4357-B516-F7E4067E06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Assistance en cas de difficulté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"/>
          <p:cNvSpPr/>
          <p:nvPr/>
        </p:nvSpPr>
        <p:spPr>
          <a:xfrm>
            <a:off x="90360" y="170964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Macros désactivées par még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Quitter l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ctiver les macros lors de la réouve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Macros non autoris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’application fonctionnera mais pas les saisies « automatiques 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eiller à bien saisir toutes le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s de conséquences sur l’édition du rapport et du p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E6A-20A7-4377-BDF6-479AB7E7B0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Question ou autre difficulté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"/>
          <p:cNvSpPr/>
          <p:nvPr/>
        </p:nvSpPr>
        <p:spPr>
          <a:xfrm>
            <a:off x="90360" y="1143000"/>
            <a:ext cx="905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Contacter votre C-CLI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Est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Lory MOUCH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Tél. : 03 83 15 34 45 ; e.mail : l.mouchot@chu-nancy.f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Ouest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Nadine GAR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Tél. :</a:t>
            </a:r>
            <a:r>
              <a:rPr b="1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02 99 87 35 37 ; e.mail : nadine.garreau@chu-rennes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Paris-Nord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Fabien DANIEL</a:t>
            </a: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01 40 46 42 08 ; e.mail : fabien.daniel@bhdc.jussieu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Sud-Est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Benoît TRESSIER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9933"/>
                </a:solidFill>
                <a:latin typeface="Arial"/>
                <a:ea typeface="Arial"/>
              </a:rPr>
              <a:t>Tél. : 04 78 86 49 22 ; e.mail : benoit.tressieres@chu-lyon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Sud-Ouest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Muriel PEF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9933"/>
                </a:solidFill>
                <a:latin typeface="Arial"/>
                <a:ea typeface="Arial"/>
              </a:rPr>
              <a:t>Tél. : 05 56 79 60 58 ; e.mail : muriel.pefau@chu-bordeaux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DCB-A448-43D2-A3EC-67CCDF6547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Trebuchet MS"/>
              </a:rPr>
              <a:t>Groupe « POP »</a:t>
            </a:r>
            <a:endParaRPr b="0" lang="en-US" sz="28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rebuchet MS"/>
              </a:rPr>
              <a:t>Marie-Alix ERTZSCHEID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Michèle AGGOUNE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Claude BERNET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Anne BETTINGER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France BORGEY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Marie-Claire CARPENTIER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Élisabeth GALY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Christophe GAUTIER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Zoher KADI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Pr. Benoist LEJEUNE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hantal MOURENS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Isabelle RACLOT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Pascal THIBON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4720" y="1844640"/>
            <a:ext cx="4470480" cy="417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33"/>
                </a:solidFill>
                <a:latin typeface="Trebuchet MS"/>
              </a:rPr>
              <a:t>Établissements-tests </a:t>
            </a:r>
            <a:endParaRPr b="0" lang="en-US" sz="28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linique La Casamance, AUBAGNE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Institut BERGONI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É,  </a:t>
            </a: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BORDEAUX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entre Hospitalier, COLMAR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Hôpital Militaire de LAVERAN, MARSEILLE 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Hôpital Militaire LEGOUEST, METZ 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HU de NANTES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linique Saint Grégoire, RENNES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HU de TOURS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68360" y="260280"/>
            <a:ext cx="8207280" cy="1152720"/>
            <a:chOff x="468360" y="260280"/>
            <a:chExt cx="8207280" cy="115272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468360" y="377640"/>
              <a:ext cx="8203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68360" y="995040"/>
              <a:ext cx="8207280" cy="41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360" y="260280"/>
              <a:ext cx="820728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248-BBEA-4318-B161-7A356557A3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rebuchet MS"/>
              </a:rPr>
              <a:t>Installation de POP_TABLEUR.xl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"/>
          <p:cNvSpPr/>
          <p:nvPr/>
        </p:nvSpPr>
        <p:spPr>
          <a:xfrm>
            <a:off x="90360" y="1709640"/>
            <a:ext cx="905364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L’application POP_TABLEUR vous permettr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e saisir les fiches de l’évaluation des pratiques de la préparation cuta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’obtenir un rapport d’analyse, des graphiques et un poster de synthèse de vo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L’application fonctionn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vec le tableur Excel (à partir de la version 9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vec le tableur Open Office CALC (version 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E85-65DF-4AC0-BE7F-D36CBFF33B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rebuchet MS"/>
              </a:rPr>
              <a:t>Installation de POP_TABLEUR.xl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"/>
          <p:cNvSpPr/>
          <p:nvPr/>
        </p:nvSpPr>
        <p:spPr>
          <a:xfrm>
            <a:off x="90360" y="170964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Après téléchargement, double-cliquez sur l’icône du fich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 vous avez le message suivant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quer sur activer les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Vous obtiendrez le messag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quer sur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00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14640" y="3327480"/>
            <a:ext cx="3810240" cy="1724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 flipV="1">
            <a:off x="6134040" y="4814640"/>
            <a:ext cx="495360" cy="29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099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5410080"/>
            <a:ext cx="2286000" cy="1365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62520" y="64008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6F3-1110-4A01-9E28-5242383985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47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Vous arrivez sur le texte d’avertissement suivant : </a:t>
            </a:r>
            <a:r>
              <a:rPr b="0" lang="en-US" sz="4400" spc="-1" strike="noStrike" u="sng">
                <a:solidFill>
                  <a:srgbClr val="ff9933"/>
                </a:solidFill>
                <a:uFillTx/>
                <a:latin typeface="Trebuchet MS"/>
              </a:rPr>
              <a:t>à lire !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"/>
          <p:cNvSpPr/>
          <p:nvPr/>
        </p:nvSpPr>
        <p:spPr>
          <a:xfrm>
            <a:off x="90360" y="170964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Après télé-chargement, double-cliquez sur l’icône du fich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100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134040" y="4814640"/>
            <a:ext cx="495360" cy="29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99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4400" y="1266840"/>
            <a:ext cx="9248760" cy="569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934-56F7-47F5-A6DF-82536536E0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rebuchet MS"/>
              </a:rPr>
              <a:t>Installation de POP_TABLEUR.xl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029200"/>
            <a:ext cx="883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En résumé, téléchargez autant de fichiers POP_TABLEURS que de « services » audités, et renommez chaque fic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33"/>
                </a:solidFill>
                <a:latin typeface="Trebuchet MS"/>
              </a:rPr>
              <a:t>Remarque : vous pouvez aussi télécharger un seul fichier, saisir la fiche Établissement, puis faire autant de copies du fichier que de services audités, en les renommant à chaqu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295280"/>
            <a:ext cx="411480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x services de chirurgi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f et orthopé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 dans les de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léchargez deux fichiers, que 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omm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_TABLEUR DIG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_TABLEUR 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390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blissemen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1290600"/>
            <a:ext cx="4114800" cy="335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seul service de chirurgie généra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c du digestif et de l’ur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 dans c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3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blisseme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3124080"/>
            <a:ext cx="22860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it vous télécharge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ichi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que 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mme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_TABLEUR DIG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_TABLEUR 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us aurez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rap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29560" y="3119400"/>
            <a:ext cx="2286000" cy="198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vous télécharge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fichie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que 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nomme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_TABLEUR 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us aurez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ra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2B3-E6A2-47CE-8936-AF42A7D3C4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Établissement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036800"/>
            <a:ext cx="6934320" cy="582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Établissement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90760" y="2376360"/>
            <a:ext cx="2957400" cy="28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819520" y="3276720"/>
            <a:ext cx="4419360" cy="333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ACC-6BDE-4878-A7CA-E8C6340499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Établissement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040" y="4724280"/>
            <a:ext cx="8077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isissez les données dans les cases encadrées puis ta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 Tab pour passer à la case suiv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339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7440" y="5867280"/>
            <a:ext cx="80755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les macros sont désactivées, les passages automatiques à la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ivante peuvent ne pas fonctionner (utiliser votre souris ou t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 nouveau sur la touche Tab pour aller sur la case suiva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7CC-ACB0-4AD9-BCD7-94A9FB23B6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Établissement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572000"/>
            <a:ext cx="8075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vous saisissez des données en dehors des valeurs possibles,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vous le signalera. Cliquez sur Réessayer et saisissez 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eur autoris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486400"/>
            <a:ext cx="8075520" cy="12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bre de services de chirurgie : indiquer le nombre TOT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rvices (participant ou non à l’audi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bre d’intervention et nombre d’actes en Rx interventionnel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iquer le nombre d’actes l’année N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76960" cy="344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5334120" y="4343040"/>
            <a:ext cx="759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447920"/>
            <a:ext cx="2057400" cy="1143000"/>
          </a:xfrm>
          <a:prstGeom prst="wedgeEllipseCallout">
            <a:avLst>
              <a:gd name="adj1" fmla="val 118208"/>
              <a:gd name="adj2" fmla="val 16472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800" y="1628640"/>
            <a:ext cx="202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s d’acte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X interventionnel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isir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914400"/>
            <a:ext cx="1295280" cy="1371600"/>
          </a:xfrm>
          <a:prstGeom prst="wedgeEllipseCallout">
            <a:avLst>
              <a:gd name="adj1" fmla="val -99388"/>
              <a:gd name="adj2" fmla="val -1296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43720" y="105408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la fin de la saisie, cliquer sur Retour au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" y="5491080"/>
            <a:ext cx="8075520" cy="13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cas d’erreur lors de la sais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ous avez tapé un nombre de service inexact par exempl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s pouvez rectifier en retapant le chiffre sur la case puis en faisant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4CD-14AA-4AC1-8787-09D6922F11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6:28:39Z</dcterms:created>
  <dc:creator>France Borgey</dc:creator>
  <dc:description/>
  <dc:language>en-US</dc:language>
  <cp:lastModifiedBy>CHU</cp:lastModifiedBy>
  <dcterms:modified xsi:type="dcterms:W3CDTF">2007-03-29T15:11:50Z</dcterms:modified>
  <cp:revision>149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9816795</vt:r8>
  </property>
  <property fmtid="{D5CDD505-2E9C-101B-9397-08002B2CF9AE}" pid="3" name="_AuthorEmail">
    <vt:lpwstr>Marie-Alix.ERTZSCHEID@chu-rennes.fr</vt:lpwstr>
  </property>
  <property fmtid="{D5CDD505-2E9C-101B-9397-08002B2CF9AE}" pid="4" name="_AuthorEmailDisplayName">
    <vt:lpwstr>ERTZSCHEID Marie-Alix</vt:lpwstr>
  </property>
  <property fmtid="{D5CDD505-2E9C-101B-9397-08002B2CF9AE}" pid="5" name="_EmailSubject">
    <vt:lpwstr>POP - Versions avant 1er mars </vt:lpwstr>
  </property>
</Properties>
</file>